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01F-3CBB-4244-A552-EDEBF06D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88C-C5FD-4711-A62E-AE28644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13D-2BB7-4D0E-B6FF-470C23F0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2AE-B751-4099-8C29-C3718907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BC20-06A6-4267-9590-36FA5C03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F6A6-8E04-48ED-818B-6AC94253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69CA-85BC-4F72-9598-44CAC15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16D9-EC5F-44A1-8B4D-DCAE949F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168D-08D9-46C7-9975-22E93F9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A8D5-853C-4ED0-A7F4-A31AF3F7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21F-85A1-4AE5-ABE2-7BF653C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D78-F95C-4CDF-97DE-4D07BAF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3BD1-2CE4-40D1-BFE3-2882A65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5A41-46E9-46E3-8F80-6C11E0A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3262-108B-49C6-8EA9-F6D833BB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0ED3-236E-4A58-80FF-D96DF4B5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199-D6CD-46EC-88FC-F1D87B2F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2A5-F342-4C7E-854B-226CE562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57A-F9A7-448D-9592-7B273DB0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BD2-5F38-4EB5-93DA-2530F666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22A-DB4B-4D44-BBFC-30A48ACA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896-0DF3-4260-AABC-806F3A4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D3B-B5C1-4565-9B5B-44A28C2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C09-B9F7-4B56-9536-0555425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9C2E0-E12E-4CC0-998A-D3655B149931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FD71E-1BEB-4183-A0BE-4D2CC307854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FEDC1-3912-4893-98F5-98F8CF4E633C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E6F49-D5C4-45CE-83E6-11B762ACBC5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048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tyhelminthes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flatworm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75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ue muscle tissue – longitudinal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imitive brain-like ganglia (nerve clusters) and ventral nerve cor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exual: fragmentation; regene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hermaphrodi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uth, pharynx, &amp; gastrovascular cavit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                 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 body opening = mouth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ame cells (sweep waste out of bod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3:22:13Z</dcterms:modified>
  <cp:revision>4</cp:revision>
  <dc:subject/>
  <dc:title>Animal Phyla Chart</dc:title>
</cp:coreProperties>
</file>